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BFD6-D860-4285-A212-3F1B99808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21AB-5BEE-4B30-80B2-8C2073226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CFD5-5246-4C28-A63A-3836148C1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6D2B-7F42-4976-A5E6-ED466E17E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B8CA-D75F-4C83-819B-BA79ADC01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BDB3-CD03-4DAA-BC30-201B00C1F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FF1D-2E67-4B45-9358-11B5E73A1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A1AF-6C3E-4428-8FF2-27613A745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124D-BC9B-4349-8A6F-F6159AEED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1731-96DA-4B2F-945D-E9E0FDE94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D95A-8940-4D8E-BCF1-8FBE0A91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D362-DE97-45F1-97A6-831E0DBA5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0D4B4-B08F-4EDF-9DB0-97EEAB5B39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Clase De Espan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briela y Raqu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 Dias De La Sem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erc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e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r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b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min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 Est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ierno(diciembre,enero,febre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avera(marzo,abril,may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ano(junio,julio,agost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ono(septiembre,octubre,noviemb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09680" y="3886200"/>
            <a:ext cx="47116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 me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o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br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z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r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n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l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019920" y="1447560"/>
            <a:ext cx="266688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o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tiem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tu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iem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iem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09680" y="2819520"/>
            <a:ext cx="38102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escue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computad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escrito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lap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band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 carpe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relo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bilbiote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pap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 lib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ofic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gimnas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 cray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 marc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 maest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 depor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18:29:21Z</dcterms:created>
  <dc:creator>WSFCS Workstation</dc:creator>
  <dc:description/>
  <dc:language>en-US</dc:language>
  <cp:lastModifiedBy>WSFCS Workstation</cp:lastModifiedBy>
  <dcterms:modified xsi:type="dcterms:W3CDTF">2010-04-27T18:55:48Z</dcterms:modified>
  <cp:revision>3</cp:revision>
  <dc:subject/>
  <dc:title>La Clase De Espanol</dc:title>
</cp:coreProperties>
</file>